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85E-296B-4531-A536-82C523E3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405-6585-42CD-96AE-927FA724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50083-615A-47D4-8921-AF758E07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C0D3F-482C-4D92-AD4E-6D7D40BA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B22C9-3875-4DB2-BDCB-996BBBED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11974-B4CF-4A84-9A22-8BD7A228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9FC27-3679-4318-B13C-2C34FA4A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6E9E0-963E-4EF2-8F5D-91F7F6FB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304AC-DCEC-465B-9F73-FBD59E99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BF564-ED79-466B-B404-BAF88649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156FE-DCD3-4B26-B411-7EA5C8AE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90738-21D9-4440-9580-0C63026C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585-FB98-4D90-A8D7-B4A68019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16F2B-5C61-4209-8546-3032F0A9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4727C-F688-4BF3-A10B-3F4BB979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7E7A5-D6F6-4E19-B052-C829960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5DBF4-AB51-4EF6-B324-42290BAE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2AF87-5F6C-4680-864B-459E466F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1D6B7-A9B0-4BAA-9021-51661B39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42A4C-E941-4D04-B55F-7130E38F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A212D-DE95-448F-8BB5-9B480E6B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6F39D-262B-47CE-BFF7-9CC129F9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15EDC-AEC8-475E-B969-41BAA78A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0E4-3F43-417A-A3CB-9B280ED7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97EF9-062B-4F52-91D2-7DC2720E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38B3A9-33D3-4410-B690-5F2369A7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2B8316-BFE1-4CE7-9509-A83FF7A0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2C1609-ACE5-4CCC-B329-F4581397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4F2B1E-A1BA-418B-B4FF-269B536D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BDDDDE-C6F6-4A86-85A6-34AE6F78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B6D1EF-CA5C-404A-B496-78830904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5459E4-795C-416D-A3F7-2296ECD7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96B0E1-8341-4319-9E77-CF431CE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D110A2-6EF8-4641-8494-0A34CDC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6E4BDF-D2ED-4E12-930F-89DADFF6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44CD13-C31D-4A29-86FA-42EFB58C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DD5D04-A9BC-4C19-994A-53624A1C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3C09A-9D16-4DE1-8F3F-AFA708E5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79160-1006-403A-BDDE-E07CB844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00D4B-178F-4C5A-8754-4B8F99D3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BCA71-87E3-4345-8C95-738DDB7D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55A46-D76A-494D-9E17-E6CCED93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DD826-CB0C-421B-B116-EEB25E2D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AB8F2-E78E-4598-9A07-77EB936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0799C-9512-4B50-98EA-A8B21DE6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2C258-31A3-4D45-AE8E-1A7EFC08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28469-12F3-460A-9775-60744AF1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2AAD7-2C71-4520-9888-01AA8799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A43C1-D86E-4888-BD4D-AE21C4FA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86C829-062E-4595-8898-EB5D5AB2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5F5218-0A6F-43B4-9F35-2B300F73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2A1E8C-F11A-435C-8E5A-57773F51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14A404-4F2E-411E-8673-D1A4A7EC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2C8C99-D34E-491F-82F7-CC046C33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1D6716-C878-49BE-BB7C-1114A1FD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F48B62-51E0-413B-B54E-C6361B48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7FCF24-71F2-405A-9AC0-C6C6EBBD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C63477-31B7-4E49-A584-B0375E4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6E7BA1-5448-4ADA-8922-538A2C4C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8C2C58-CEC8-4528-98F3-3A1D4879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9CA83B-E94D-431C-A145-01B06A40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A6801-0824-43A4-AAF0-C4F9899E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E69C8-270D-4BB5-963F-615DD53B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9DD26-D491-4E27-8377-C9306122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CA400-139B-4866-978F-2DDF4C0B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4546D-307D-4659-B5B3-CEDF915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49B0F-6BF6-4684-B8DF-C2A7141B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8C1B0-2DE8-4889-8F5F-0FD4B2E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77644-6CD1-43AF-9851-E794D69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EFE63-B2F6-434D-BDCE-B7BC4BE7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A9399-0D19-451A-BDAE-0610CC26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68070-45D9-45BF-B68C-68139C6E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A53F1-F533-4ECB-8B67-E79A6CF3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C8019-BD26-426F-B4B1-A0F6C0E0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3AE79-2EAF-410C-AFB4-3735BBA6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1403B-449E-442A-8553-DD649043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7A39F-6E3E-4668-BE11-FC6B4E5F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7597F-9717-4B50-A2CB-D4DBA197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CD6BB-1506-4550-B343-B1735C7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C4361-97D2-465D-BF8E-3BF7D03D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CDEB17-38F5-4A84-A397-4023C9D4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CDC50-870A-4FC6-A609-799C977A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26DAE-3F00-4052-B34F-D25C39D0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8533A-DE5F-4BF7-8BB8-5F5D2E7E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92334-1721-4D33-AAA6-DF7FF545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D4B3F-97DD-4018-993B-1CC410C9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B9030-9184-49CF-BB12-2E05BA56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1914A-8C10-44A9-8050-63261AA0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D1381-CF09-434E-A420-F0F7D76D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E2FDA-117A-4C1F-A7EB-BBD3CA05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363F1E-CC29-4A94-B5A6-71DA7167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A0D3C-CC6E-4CCE-A2EC-728A4613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91F-521C-4F1E-973C-47B181B5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9DB3C-A887-4912-A41F-54D52E60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9B023-8158-42C7-A453-E378B21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89FD9-8411-434C-AE99-61858055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A0FA8-BB42-4454-87C9-289E38C9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0C4DE-E060-475A-B277-47597EAD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BA75E7-0FF9-41E5-BC16-797B3B1D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33AB9C-CD31-4D78-A7C4-CD7B9D17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590F4-BC55-400C-9A6E-0DC34534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0D9567-1539-4997-8348-DEC65E71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76770-3B74-4BB9-A672-7C087906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B4B3B6-DD43-44CB-B8C6-77F39A22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E3FC1-AD39-4E68-8D2C-72D5A2E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FA778-4636-450D-9207-40E27719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9E2B1-A160-46A3-8D38-C842B9CE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88915-A49F-40CE-89F9-AC418900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3BBF7-0E3B-4E75-AEDF-C7C0AE99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95262B-29C6-4C7F-B5FE-0C74CFB7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711FD-E6C1-41B1-8BDC-C38425A1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6FFED-DF8D-4E03-8242-26554190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0B41C-A79C-49E9-9FFB-B3AE088B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EE51A-A78D-4540-82D3-29A385BF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1B6B7-A8C2-4344-8D56-693428DE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9B0D7-B3F7-42B3-8513-865E908D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90B80-BE5B-4626-875B-FAC58FF6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D97F0-CE36-42F9-92EA-E026A265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17233-5986-434B-840E-579C8FC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0D399-F684-4BFF-A7BE-9B465881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6988C-D49D-4EB2-A51A-EA55E751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0F8DE-00E9-4BD5-8726-05451380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F28301-2591-4703-9BBA-F44EC85E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29B84C-650D-4FA1-8A60-ABF459B7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129627-FE62-4CC9-9D44-B55C3763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5146A3-7075-4E9E-8E57-C36ABFB1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AFA120-F16D-49B5-AF31-8586293E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EE6EB-CFCD-48B4-9797-533CA99C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37477A-6879-4F17-892A-F454B35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73DCC-5B72-4C3D-806A-C0DB3190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102BB-0053-40AE-B619-20E3E5D3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A9EF4-9D80-41AE-8AE9-EA2268B0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9E625-939B-4525-AB90-2BD6DF12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60B793-00D2-43BE-9F95-E0A3B970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2CAB40-CB37-4AA8-94A6-473ED0E3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7C744-B9B7-453E-A379-D34B4AE1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5E796-F48B-45FB-928D-56D09F01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FD0171-12E0-4F55-8582-53490924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7C753F-4124-4D8C-942C-18DA505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64C6B4-8870-42EA-B122-F9ECEC96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AA5DF-BFDD-471C-9643-FE9EEEAA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00CB9-29E9-4B48-BE7B-34C3AC2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818D08-9DFA-499E-BEFD-C921DDF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0116D-9B8A-4DF5-A615-FF3EAD70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8DDD4-7DAC-49E9-8B31-8F601A3A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940E4-DCFF-43ED-956A-48E16AD2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D4BB2B-8197-4AEE-AA79-EB8092F1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A1407-1FB3-4C14-9299-62764320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5ED35-F959-49D3-BA4E-08B47379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CB250-F097-47ED-BCA4-10A22D00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E520C-77EF-4C07-BA6C-98709C5C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1C3-9FEF-4B6A-815D-3BADDEDA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127BF-C361-4348-B272-683EDC01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F0DAD-81A0-48E9-9FCF-249495AF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85888-75E5-43D6-B9C1-B4AC2F38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BD1A6-269D-4584-8A87-EF10C30D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76C3E-36AD-4709-9877-4F0EF0D7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484E1-E3E5-45F6-9855-144A948A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CEC88-FC01-4F7E-B9FB-BF6F2BC8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2DC4D-57F6-448A-B98F-1357E990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4946E-B90C-4F3D-81CB-4AA48BA7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13DED-7CA5-44CF-B8B6-1A69D96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A36-9034-4B06-8168-DD5F7CD8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0FF11-2BD2-4373-B142-95A12173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E643F-0454-4EE8-9741-56358377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BBE17-7540-4FB2-B92D-695D544D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F676B-3ACE-4FBD-9828-55AB303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8D845-24C2-4490-9708-C77A6D9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D1705-002F-4804-8CE7-BE2295D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E8C9D-BC71-400D-8274-7A58C791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F4F1E-35FC-48E3-A99E-7FBAA121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D5673-1136-45FB-8CCB-57A2F7D9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456-C6E8-4967-B0BF-58BA57D9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BEB-DD82-4561-89D7-C4A0FE1B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59C062-3DB1-42DC-AC3C-8CBCD3BA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FD5C5-4638-4EB2-BE78-19AB7037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6D0CA1-B2E1-44D5-8614-6C86E5E5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37DD65-F70C-48DB-8653-FDE68E63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233492-2C85-4419-A63A-4BBCE5A4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B7964A-7D74-4571-9C7B-C92B3FFB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D3D63C-6510-46DB-9F1A-280C1CF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58D10C-1ABA-4592-9F04-9F27664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BCF21-D06D-4FCE-B6EE-C5571CF3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009-64A2-479E-92E8-D6B0C6FD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3BA966-BAF1-4322-B15A-1720723B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252F2-E259-46D6-8289-9C6B0827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D3CD20-A2B4-45A9-A5D0-C67419CF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54F27F-CE50-4363-82D5-55699DE8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072281-2B0D-431E-84B7-D55B58D2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CA0656-7174-4238-A888-D868D7AD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133580-730D-4908-9D47-E2FA7766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B35067-6685-4313-903B-FA58C188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AF2F7-71A2-4B84-8D8A-B9E4D1AA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9478E0-85A6-451E-8047-A71700A3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9C5-A058-442B-9F97-1B230A8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6907F9-25F1-4DB3-86EB-990D7943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7FFC26-7CEF-47E1-B529-C8514A84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77772A-A08C-4AD9-A29B-5152370E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89ECCE-A5B3-4623-825E-90E1DB13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5D276E-5F62-44A6-8B40-CC62B754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81C6DF-476E-467A-ABA7-1276FB24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4D8194-3F7D-4FCA-9B9B-DE9486D9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402C3C-BB81-490D-B5F2-A702D681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87BC4-8643-47B5-AE0A-9F9FA08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48167E-4F8B-48EA-A437-E597E524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B5E-20E9-4805-9794-FF23140B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5AEC74-8239-4EFC-B9A9-40480A28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9E539B-4604-4866-9F42-E421DC5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4842E8-9D5D-4FE8-8522-9477D16B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A2AFF5-F0BA-4BE8-80B6-7F099DB6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6C9826-E4E9-4696-9626-489AC36A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E1ACC6-1568-4539-8DE1-53889F69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97C3F3-CB98-48C2-9E4F-88B2C614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5F971-DE88-4D24-B50A-4555CE63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2E5DF-99D8-440C-8BA2-9012E582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59F7B-6B92-4819-8820-AD30BB1A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1289F-8E62-47F8-91CF-D7102CD0ACD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FB1A9-B99E-4266-9114-0AEC85A2097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E7C33-BC2E-4BDF-BCE8-8160112CF22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9A172-5D35-432D-A3B9-95A1E4F673B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9F09D-4B50-40DC-AFB7-D1EC28DA45E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97520-ADE8-4CD1-98E4-B273AED1573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3D059-5D97-4AD4-B15B-67A259E4D03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861C1-CDED-44BA-8994-6C8DB00F971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2B586-09C4-4831-940D-045C9237805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A10C4-E4B7-4B56-B31B-E404E081A88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0E6E3-4146-49C5-B9DF-5020236FA72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13C53-3A77-4421-9D93-B2F16CA12AB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724A9-B88A-42C0-AC8D-F906EA8451B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E72BF-E38B-4315-9BC6-B60719EA7E9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BA174-366F-4466-8696-CB985D587E0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9F902-94B0-411C-8940-82D4187C71E3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4221C-0505-4487-A1D9-9027EE8FFA5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04C69-B0E9-4025-B430-E232D6386C63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9B76F-6425-4A0D-A189-0BF972EF177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A2354-52B8-4D8C-AA06-1283CE0432A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A8113-D263-4519-A54F-2788BD3703B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6A57F-C62B-4366-B603-B12F8E35927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F43F5-5771-49A2-BC40-A7B2A3195EA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8B4A4-D271-4FB3-A3AB-2A9B24267E6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529BF-5584-4F62-A315-41281F350B6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14356-86F6-475C-AA6E-70B6AEC5C30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0FD92-959E-4291-855A-A4079E522CD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494AD-38A5-43FA-A66C-B7C6B19ED7C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5FEBA-74DD-4562-A403-027C9A55301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83F8C-F7ED-4C13-A490-A64E16F76F5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DAAB6-5B2C-4BF5-A025-15760FE8B15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C4242-A30B-43E7-BD9A-1CB9793C82F2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DCBD5-D401-49ED-98A8-8C49AC96A4E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06541-4E63-450B-AD16-4E7F4C8E522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23070-8D0A-483C-8188-A6BD6E947BF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09CFF-30AD-4BA4-B31D-F6B3D45CDAB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23AE4-2CA0-43BA-B4E1-E5E3B68A087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FF310-0E35-4503-A4BB-5322D1C8766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0F41F-1641-42CD-A02A-57F1E5BDAED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et out a sheet of notebook paper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Do Now – WRITE the date, the objective, and this do now dow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595959"/>
                </a:solidFill>
                <a:latin typeface="Rockwell"/>
              </a:rPr>
              <a:t>What is an organism?</a:t>
            </a:r>
            <a:endParaRPr b="0" lang="en-US" sz="7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5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Rockwell"/>
              </a:rPr>
              <a:t>What are the goals of all living things?</a:t>
            </a:r>
            <a:endParaRPr b="0" lang="en-US" sz="6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6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Rockwell"/>
              </a:rPr>
              <a:t>What is growth?</a:t>
            </a:r>
            <a:endParaRPr b="0" lang="en-US" sz="6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7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Rockwell"/>
              </a:rPr>
              <a:t>What are offspring?</a:t>
            </a:r>
            <a:endParaRPr b="0" lang="en-US" sz="6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Needs vs. want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595959"/>
                </a:solidFill>
                <a:latin typeface="Rockwell"/>
              </a:rPr>
              <a:t>What is the difference between what we want and what we need?</a:t>
            </a:r>
            <a:endParaRPr b="0" lang="en-US" sz="6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ass Pet Scenario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98600" y="1209240"/>
            <a:ext cx="75564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959"/>
                </a:solidFill>
                <a:latin typeface="Rockwell"/>
              </a:rPr>
              <a:t>If we decided to get a class pet such as a fish, what would it need?</a:t>
            </a:r>
            <a:endParaRPr b="0" lang="en-US" sz="5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member to put your Name, Date, and Class Period at the top of your pape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595959"/>
                </a:solidFill>
                <a:uFillTx/>
                <a:latin typeface="Rockwell"/>
              </a:rPr>
              <a:t>1.2 Organism’s Needs: Class Notes</a:t>
            </a:r>
            <a:endParaRPr b="0" lang="en-US" sz="6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Organism’s Need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284040" y="1599840"/>
            <a:ext cx="8337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595959"/>
                </a:solidFill>
                <a:uFillTx/>
                <a:latin typeface="Rockwell"/>
              </a:rPr>
              <a:t>Organisms need food, water, living space, and stable internal conditions to survive.</a:t>
            </a:r>
            <a:endParaRPr b="0" lang="en-US" sz="6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abit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 u="sng">
                <a:solidFill>
                  <a:srgbClr val="595959"/>
                </a:solidFill>
                <a:uFillTx/>
                <a:latin typeface="Rockwell"/>
              </a:rPr>
              <a:t>A habitat is where an organism lives.</a:t>
            </a:r>
            <a:endParaRPr b="0" lang="en-US" sz="7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95959"/>
                </a:solidFill>
                <a:latin typeface="Rockwell"/>
              </a:rPr>
              <a:t>So, for our imaginary class fish, its habitat would be its fish bowl.</a:t>
            </a:r>
            <a:endParaRPr b="0" lang="en-US" sz="4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595959"/>
                </a:solidFill>
                <a:latin typeface="Rockwell"/>
              </a:rPr>
              <a:t>What are the 4 things an organism needs to survive?</a:t>
            </a:r>
            <a:endParaRPr b="0" lang="en-US" sz="6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1.2 Organisms’ Needs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595959"/>
                </a:solidFill>
                <a:latin typeface="Rockwell"/>
              </a:rPr>
              <a:t>What is a habitat?</a:t>
            </a:r>
            <a:endParaRPr b="0" lang="en-US" sz="6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omeostasi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67840" y="1374840"/>
            <a:ext cx="86662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595959"/>
                </a:solidFill>
                <a:uFillTx/>
                <a:latin typeface="Rockwell"/>
              </a:rPr>
              <a:t>Homeostasis is the process of maintaining internal conditions despite changes in the environment – that means everything inside an organism stays the same.</a:t>
            </a:r>
            <a:endParaRPr b="0" lang="en-US" sz="5000" spc="-1" strike="noStrike">
              <a:solidFill>
                <a:srgbClr val="595959"/>
              </a:solidFill>
              <a:latin typeface="Rockwell"/>
            </a:endParaRPr>
          </a:p>
          <a:p>
            <a:pPr marL="219240" indent="-21924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omeostasis 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98240" y="1981080"/>
            <a:ext cx="8302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 u="sng">
                <a:solidFill>
                  <a:srgbClr val="595959"/>
                </a:solidFill>
                <a:uFillTx/>
                <a:latin typeface="Rockwell"/>
              </a:rPr>
              <a:t>Examples of homeostasis include sweating, shivering, and breathing </a:t>
            </a:r>
            <a:endParaRPr b="0" lang="en-US" sz="61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595959"/>
                </a:solidFill>
                <a:latin typeface="Rockwell"/>
              </a:rPr>
              <a:t>What is homeostasis?</a:t>
            </a:r>
            <a:endParaRPr b="0" lang="en-US" sz="59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595959"/>
                </a:solidFill>
                <a:latin typeface="Rockwell"/>
              </a:rPr>
              <a:t>What is one example of homeostasis?</a:t>
            </a:r>
            <a:endParaRPr b="0" lang="en-US" sz="59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498600" y="1168200"/>
            <a:ext cx="75564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3700" spc="-1" strike="noStrike">
                <a:solidFill>
                  <a:srgbClr val="595959"/>
                </a:solidFill>
                <a:latin typeface="Rockwell"/>
              </a:rPr>
              <a:t>Tiger salamanders live in burrows below the surface, near ponds, lakes, or slow-moving streams and are one of few salamanders able to survive in the arid climate of the North America interior” refers to the salamanders’ _______________?  </a:t>
            </a:r>
            <a:endParaRPr b="0" lang="en-US" sz="3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Pelicans are found on many of the world's coastlines and also along lakes and rivers” refers to the Pelican’s ____________.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30120" y="1355760"/>
            <a:ext cx="8344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9656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Elephants have a longer pregnancy than any other mammal—almost 22 months. Female Elephants usually give birth to one calf every two to four years.” In this passage, what is the elephants offspring called? 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  <a:p>
            <a:pPr marL="196560" indent="-19656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Independent Practi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595959"/>
                </a:solidFill>
                <a:latin typeface="Rockwell"/>
              </a:rPr>
              <a:t>Silently complete the handout.</a:t>
            </a:r>
            <a:endParaRPr b="0" lang="en-US" sz="65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Journal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genda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98600" y="1355760"/>
            <a:ext cx="755640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Do Now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Homework Check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Review 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Notes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Practice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Journal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Binders (pass back papers, binders, markers, tabs)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Journal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Classwork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Study Aids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Homework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omework Check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98600" y="1622160"/>
            <a:ext cx="79279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Put your homework in the homework section of your binder.  Look at your paper and check your answers as we review them.  Put a √ for correct and an x for incorrect.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1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595959"/>
                </a:solidFill>
                <a:latin typeface="Rockwell"/>
              </a:rPr>
              <a:t>What are our 3 class rules?</a:t>
            </a:r>
            <a:endParaRPr b="0" lang="en-US" sz="5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2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95959"/>
                </a:solidFill>
                <a:latin typeface="Rockwell"/>
              </a:rPr>
              <a:t>What are living things made of?</a:t>
            </a:r>
            <a:endParaRPr b="0" lang="en-US" sz="7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3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95959"/>
                </a:solidFill>
                <a:latin typeface="Rockwell"/>
              </a:rPr>
              <a:t>Can all living things move?</a:t>
            </a:r>
            <a:endParaRPr b="0" lang="en-US" sz="7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4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95959"/>
                </a:solidFill>
                <a:latin typeface="Rockwell"/>
              </a:rPr>
              <a:t>What is one example of a living thing?</a:t>
            </a:r>
            <a:endParaRPr b="0" lang="en-US" sz="7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3:46:52Z</dcterms:created>
  <dc:creator>Caroline Roth</dc:creator>
  <dc:description/>
  <dc:language>en-US</dc:language>
  <cp:lastModifiedBy>Caroline Roth</cp:lastModifiedBy>
  <dcterms:modified xsi:type="dcterms:W3CDTF">2011-05-23T04:20:57Z</dcterms:modified>
  <cp:revision>12</cp:revision>
  <dc:subject/>
  <dc:title>Do Now – WRITE the date, the objective, and this do now down</dc:title>
</cp:coreProperties>
</file>